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236-9348-4BE3-9989-1528EF53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562-A640-4FB9-AA89-F80A7AE2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462-CDDE-4EBD-88F6-915EEF43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C49-80E5-4D9F-A728-3C92A432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256-B711-400A-B09B-101FD33B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1D2-6C28-4282-8775-92F9E5D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C8D-6CAD-4926-AEF1-AB5EF011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CDC-A4CD-46DE-8C04-152F9EE9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D13-515E-4165-886D-2628C18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C45-3B5F-4B17-9A54-456708D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AA8-468F-460A-A80D-6FAEC9B2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B66-B329-4D82-822F-A8548566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25EE-D907-478C-B4C1-0889EC5666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430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rade5 web que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643040"/>
            <a:ext cx="9144000" cy="521496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hlie o’neil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rade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i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3520" y="2378160"/>
            <a:ext cx="68104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were the story took 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the story took place in  the kings  home  and in a room filled with straw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The magic in the st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in the story the magic is how rumplestiltskin  spins straw into gold  and when he just pops 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The magic numb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The girl  had 3 chances to  guess rumplestiltskin  name was </a:t>
            </a: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main  Characters    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 millers girl  k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Good de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She got to married the  king and keep her bab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Bad de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  wanted her  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Conflict</a:t>
            </a: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Rumplestiltskin wants the lady’s  baby but she wants to keep it  and so she has to guess his name and she had 3 days to guess it on the last day  of the last name on her list she got it </a:t>
            </a:r>
            <a:r>
              <a:rPr b="0" lang="en-AU" sz="20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50"/>
                </a:solidFill>
                <a:latin typeface="Calibri"/>
              </a:rPr>
              <a:t>Conflict resolv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b0f0"/>
                </a:solidFill>
                <a:latin typeface="Calibri"/>
              </a:rPr>
              <a:t>ho</a:t>
            </a:r>
            <a:r>
              <a:rPr b="0" lang="en-AU" sz="1900" spc="-1" strike="noStrike">
                <a:solidFill>
                  <a:srgbClr val="00b0f0"/>
                </a:solidFill>
                <a:latin typeface="Calibri"/>
              </a:rPr>
              <a:t>w the conflict was solved is she guessed his name and she got to keep he r baby and marrie  the king 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b0f0"/>
                </a:solidFill>
                <a:latin typeface="Calibri"/>
              </a:rPr>
              <a:t>Cli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Ink 3"/>
          <p:cNvSpPr/>
          <p:nvPr/>
        </p:nvSpPr>
        <p:spPr>
          <a:xfrm>
            <a:off x="297000" y="5851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826" y="16256"/>
                </a:moveTo>
                <a:lnTo>
                  <a:pt x="826" y="162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aylor lautn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a22e8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ylor is born on the 11</a:t>
            </a:r>
            <a:r>
              <a:rPr b="0" lang="en-AU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of February .  He is 17 year  old . Taylor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famous because he is a popular  move star . Taylor is  born in U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1. Taylor is in new moon 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2. He is on twilight  as well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3.  He was on high school football  team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4. He began acting at the age of 13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5. His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iddle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name  is denial.</a:t>
            </a: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98989"/>
                </a:solidFill>
                <a:latin typeface="Calibri"/>
              </a:rPr>
              <a:t>Click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2357280"/>
            <a:ext cx="4143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peed gri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aim of the game is to get the sums righ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o pla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 will need to press play and the you read the number you have to make out of other numbers like th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you need to guess the s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. And that is  how you play 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 recommend this came to grade 5 6 because they have hard sums like what do you need to get up to  249  i did not enjoy it that much if you like hard work that this is the game forhttp://www.woodlands-   you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lic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0" y="2857680"/>
          <a:ext cx="3929040" cy="1525320"/>
        </p:xfrm>
        <a:graphic>
          <a:graphicData uri="http://schemas.openxmlformats.org/drawingml/2006/table">
            <a:tbl>
              <a:tblPr/>
              <a:tblGrid>
                <a:gridCol w="1038240"/>
                <a:gridCol w="963720"/>
                <a:gridCol w="963360"/>
                <a:gridCol w="96372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K Mar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 are bad they can some times not work out for the people how do75 industries use franchising to distribute goods and services to consumer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In the United States more than 40% of all retail sales come through franchising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ere are 767,483 franchised business establishments in the United States (2001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d Businesses provide over 18,000,000 jobs in the United States (2004 estimate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Franchised Businesses provide goods and services worth $624.6 billion per year in the United States (2001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A new Franchised Business opens somewhere in the United States every 8 minut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300" spc="-1" strike="noStrike">
                <a:solidFill>
                  <a:srgbClr val="000000"/>
                </a:solidFill>
                <a:latin typeface="Calibri"/>
              </a:rPr>
              <a:t>this  end slide show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4:42Z</dcterms:created>
  <dc:creator>Education</dc:creator>
  <dc:description/>
  <dc:language>en-US</dc:language>
  <cp:lastModifiedBy>Education</cp:lastModifiedBy>
  <dcterms:modified xsi:type="dcterms:W3CDTF">2009-12-01T23:30:54Z</dcterms:modified>
  <cp:revision>23</cp:revision>
  <dc:subject/>
  <dc:title>Grade 5 web quest</dc:title>
</cp:coreProperties>
</file>